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00A-8FB4-40BA-BE32-61E1A3A30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D3B-58A7-401C-83C0-038C4AF4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4C2-2591-47B2-A883-795BBD13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3EAD-24CB-485F-9017-7858C726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EEF-A205-41C2-9F32-5168DE2D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CB4-B438-467C-8B1A-41FB461C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E7A-582E-4242-983E-CCC6A194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343-5C3D-4E13-AF41-006F3427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847-FEFA-4767-BB0D-F60BE325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E466-52A8-4BAC-B485-AE831096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7FC-E34F-47DD-A897-2D510A36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3108-187F-4DCC-BA64-4FB4E098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B443-EA18-46E8-9DB8-0CB8D9CE1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93920" y="1509840"/>
            <a:ext cx="1959120" cy="1712880"/>
            <a:chOff x="2293920" y="1509840"/>
            <a:chExt cx="1959120" cy="1712880"/>
          </a:xfrm>
        </p:grpSpPr>
        <p:sp>
          <p:nvSpPr>
            <p:cNvPr id="42" name=""/>
            <p:cNvSpPr/>
            <p:nvPr/>
          </p:nvSpPr>
          <p:spPr>
            <a:xfrm>
              <a:off x="2293920" y="1509840"/>
              <a:ext cx="985680" cy="171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3279600" y="1523520"/>
              <a:ext cx="973440" cy="16988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93920" y="1509840"/>
              <a:ext cx="1930320" cy="1712880"/>
            </a:xfrm>
            <a:custGeom>
              <a:avLst/>
              <a:gdLst/>
              <a:ahLst/>
              <a:rect l="l" t="t" r="r" b="b"/>
              <a:pathLst>
                <a:path w="1216" h="1079">
                  <a:moveTo>
                    <a:pt x="0" y="0"/>
                  </a:moveTo>
                  <a:lnTo>
                    <a:pt x="1216" y="0"/>
                  </a:lnTo>
                  <a:lnTo>
                    <a:pt x="621" y="107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66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 flipV="1">
            <a:off x="2293920" y="4703760"/>
            <a:ext cx="1987560" cy="1363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93920" y="1088640"/>
            <a:ext cx="0" cy="36133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259160" y="1107720"/>
            <a:ext cx="0" cy="36133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286080" y="975960"/>
            <a:ext cx="0" cy="50655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080" y="4194000"/>
            <a:ext cx="775044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53040" y="4179960"/>
            <a:ext cx="2263680" cy="22636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95880" y="4702320"/>
            <a:ext cx="58104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6021360"/>
            <a:ext cx="314964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124680" y="1190520"/>
            <a:ext cx="0" cy="49341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746600" y="1174320"/>
            <a:ext cx="0" cy="35989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121200" y="2540160"/>
            <a:ext cx="304776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891800" y="1514520"/>
            <a:ext cx="304812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14680" y="917640"/>
            <a:ext cx="1935000" cy="19890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38320" y="957240"/>
            <a:ext cx="1841760" cy="19494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180960" y="3225960"/>
            <a:ext cx="156204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93920" y="1508040"/>
            <a:ext cx="1959120" cy="2671920"/>
            <a:chOff x="2293920" y="1508040"/>
            <a:chExt cx="1959120" cy="2671920"/>
          </a:xfrm>
        </p:grpSpPr>
        <p:sp>
          <p:nvSpPr>
            <p:cNvPr id="61" name=""/>
            <p:cNvSpPr/>
            <p:nvPr/>
          </p:nvSpPr>
          <p:spPr>
            <a:xfrm>
              <a:off x="2293920" y="1509840"/>
              <a:ext cx="0" cy="267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93920" y="4179960"/>
              <a:ext cx="195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253040" y="1523880"/>
              <a:ext cx="0" cy="265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5360" y="1508040"/>
              <a:ext cx="986040" cy="103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279600" y="1508040"/>
              <a:ext cx="973440" cy="1030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94000" y="2525760"/>
              <a:ext cx="0" cy="165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93920" y="1509840"/>
              <a:ext cx="19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354560" y="1195560"/>
            <a:ext cx="2435040" cy="18666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716360" y="1484280"/>
            <a:ext cx="1363680" cy="2684520"/>
            <a:chOff x="4716360" y="1484280"/>
            <a:chExt cx="1363680" cy="2684520"/>
          </a:xfrm>
        </p:grpSpPr>
        <p:sp>
          <p:nvSpPr>
            <p:cNvPr id="70" name=""/>
            <p:cNvSpPr/>
            <p:nvPr/>
          </p:nvSpPr>
          <p:spPr>
            <a:xfrm>
              <a:off x="4716360" y="1498680"/>
              <a:ext cx="0" cy="265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16360" y="4168800"/>
              <a:ext cx="1363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6080040" y="2528640"/>
              <a:ext cx="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4716360" y="1484280"/>
              <a:ext cx="1363680" cy="10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4743360" y="2540160"/>
            <a:ext cx="1378080" cy="691920"/>
          </a:xfrm>
          <a:custGeom>
            <a:avLst/>
            <a:gdLst/>
            <a:ahLst/>
            <a:rect l="l" t="t" r="r" b="b"/>
            <a:pathLst>
              <a:path w="868" h="436">
                <a:moveTo>
                  <a:pt x="868" y="0"/>
                </a:moveTo>
                <a:cubicBezTo>
                  <a:pt x="842" y="31"/>
                  <a:pt x="773" y="131"/>
                  <a:pt x="712" y="184"/>
                </a:cubicBezTo>
                <a:cubicBezTo>
                  <a:pt x="651" y="237"/>
                  <a:pt x="577" y="283"/>
                  <a:pt x="500" y="320"/>
                </a:cubicBezTo>
                <a:cubicBezTo>
                  <a:pt x="423" y="357"/>
                  <a:pt x="331" y="385"/>
                  <a:pt x="248" y="404"/>
                </a:cubicBezTo>
                <a:cubicBezTo>
                  <a:pt x="165" y="423"/>
                  <a:pt x="52" y="429"/>
                  <a:pt x="0" y="436"/>
                </a:cubicBezTo>
              </a:path>
            </a:pathLst>
          </a:custGeom>
          <a:noFill/>
          <a:ln w="9360">
            <a:solidFill>
              <a:srgbClr val="d1d3d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68920" y="1562040"/>
            <a:ext cx="1197000" cy="1687680"/>
          </a:xfrm>
          <a:custGeom>
            <a:avLst/>
            <a:gdLst/>
            <a:ahLst/>
            <a:rect l="l" t="t" r="r" b="b"/>
            <a:pathLst>
              <a:path w="754" h="1063">
                <a:moveTo>
                  <a:pt x="3" y="0"/>
                </a:moveTo>
                <a:lnTo>
                  <a:pt x="754" y="698"/>
                </a:lnTo>
                <a:lnTo>
                  <a:pt x="0" y="1063"/>
                </a:lnTo>
                <a:lnTo>
                  <a:pt x="534" y="653"/>
                </a:lnTo>
                <a:lnTo>
                  <a:pt x="3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8358200">
            <a:off x="5207760" y="681480"/>
            <a:ext cx="1197000" cy="1687320"/>
          </a:xfrm>
          <a:custGeom>
            <a:avLst/>
            <a:gdLst/>
            <a:ahLst/>
            <a:rect l="l" t="t" r="r" b="b"/>
            <a:pathLst>
              <a:path w="754" h="1063">
                <a:moveTo>
                  <a:pt x="3" y="0"/>
                </a:moveTo>
                <a:lnTo>
                  <a:pt x="754" y="698"/>
                </a:lnTo>
                <a:lnTo>
                  <a:pt x="0" y="1063"/>
                </a:lnTo>
                <a:lnTo>
                  <a:pt x="534" y="653"/>
                </a:lnTo>
                <a:lnTo>
                  <a:pt x="3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4440" y="353880"/>
            <a:ext cx="8286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True shape of a Triangular inclined plan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tep 1. set out the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1747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tep 2. set out the base line, project up for the ele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1776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tep 3. set out the diagonal, project across and up for the end ele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68648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tep 4. Mark off the heights put in the sloping top and firm in the out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6000" y="166536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tep 5. Set the compass to the true width of the inclined plane and project it down to the ver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96000" y="392112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Step 6. Project the new position across to the elevation and drawer in the true shape of the triangular 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669160" y="6383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4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000"/>
                            </p:stCondLst>
                            <p:childTnLst>
                              <p:par>
                                <p:cTn id="98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7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3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5:16:58Z</dcterms:created>
  <dc:creator>gcheetham</dc:creator>
  <dc:description/>
  <dc:language>en-US</dc:language>
  <cp:lastModifiedBy>gcheetham</cp:lastModifiedBy>
  <dcterms:modified xsi:type="dcterms:W3CDTF">2007-09-12T03:15:54Z</dcterms:modified>
  <cp:revision>3</cp:revision>
  <dc:subject/>
  <dc:title>Slide 1</dc:title>
</cp:coreProperties>
</file>